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EAF-BB8F-467A-82BC-C493D082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140-8EE4-4B24-B4ED-A88833C4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9C1-427C-47AB-A618-39619E03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916-6421-4183-929B-951F05C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BEA-0204-437D-AF24-32FAA017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383-1C91-4375-849D-C1E19FF4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EBA-8435-4BA7-871E-6537FE75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8A1-657B-4143-8E49-3908A707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3C7-9128-4652-8DBA-A2E93CD3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B2E-1746-4FF1-8C39-D3291AB4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95B-E41C-46EE-AA64-358BE5C9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ABE-1C25-4532-A5E8-7A4ED31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9B78-B5E7-4938-ADF9-2F66ADE27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658880" cy="369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59280" y="1052640"/>
            <a:ext cx="1728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0360" y="22766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bir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125360"/>
            <a:ext cx="431640" cy="3598920"/>
          </a:xfrm>
          <a:custGeom>
            <a:avLst/>
            <a:gdLst>
              <a:gd name="textAreaLeft" fmla="*/ 0 w 431640"/>
              <a:gd name="textAreaRight" fmla="*/ 155880 w 431640"/>
              <a:gd name="textAreaTop" fmla="*/ 93600 h 3598920"/>
              <a:gd name="textAreaBottom" fmla="*/ 3505320 h 35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2488"/>
                </a:lnTo>
                <a:cubicBezTo>
                  <a:pt x="10800" y="3388"/>
                  <a:pt x="16200" y="4288"/>
                  <a:pt x="21600" y="4288"/>
                </a:cubicBezTo>
                <a:cubicBezTo>
                  <a:pt x="16200" y="4288"/>
                  <a:pt x="10800" y="5188"/>
                  <a:pt x="10800" y="60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32000" y="1173240"/>
            <a:ext cx="1584360" cy="1069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0920" y="566100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amo program v zbirnem jeziku in zbir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658880" cy="3697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1052640"/>
            <a:ext cx="1728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35640" y="1036800"/>
            <a:ext cx="1649520" cy="36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132000" y="1195560"/>
            <a:ext cx="1584360" cy="1069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0360" y="22766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bir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1125360"/>
            <a:ext cx="431640" cy="3598920"/>
          </a:xfrm>
          <a:custGeom>
            <a:avLst/>
            <a:gdLst>
              <a:gd name="textAreaLeft" fmla="*/ 0 w 431640"/>
              <a:gd name="textAreaRight" fmla="*/ 155880 w 431640"/>
              <a:gd name="textAreaTop" fmla="*/ 93600 h 3598920"/>
              <a:gd name="textAreaBottom" fmla="*/ 3505320 h 35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2297"/>
                </a:lnTo>
                <a:cubicBezTo>
                  <a:pt x="10800" y="3197"/>
                  <a:pt x="16200" y="4097"/>
                  <a:pt x="21600" y="4097"/>
                </a:cubicBezTo>
                <a:cubicBezTo>
                  <a:pt x="16200" y="4097"/>
                  <a:pt x="10800" y="4997"/>
                  <a:pt x="10800" y="589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931640" y="1125360"/>
            <a:ext cx="431640" cy="3598920"/>
          </a:xfrm>
          <a:custGeom>
            <a:avLst/>
            <a:gdLst>
              <a:gd name="textAreaLeft" fmla="*/ 0 w 431640"/>
              <a:gd name="textAreaRight" fmla="*/ 155880 w 431640"/>
              <a:gd name="textAreaTop" fmla="*/ 93600 h 3598920"/>
              <a:gd name="textAreaBottom" fmla="*/ 3505320 h 35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2487"/>
                </a:lnTo>
                <a:cubicBezTo>
                  <a:pt x="10800" y="3387"/>
                  <a:pt x="16200" y="4287"/>
                  <a:pt x="21600" y="4287"/>
                </a:cubicBezTo>
                <a:cubicBezTo>
                  <a:pt x="16200" y="4287"/>
                  <a:pt x="10800" y="5187"/>
                  <a:pt x="10800" y="60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0560" y="5661000"/>
            <a:ext cx="84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birnik prebere program v zbirnem jeziku in tvori program v strojnem jez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mph" presetID="30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658880" cy="369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35640" y="1036800"/>
            <a:ext cx="1649520" cy="36874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987640" y="1052640"/>
            <a:ext cx="1728720" cy="1655640"/>
            <a:chOff x="2987640" y="1052640"/>
            <a:chExt cx="1728720" cy="1655640"/>
          </a:xfrm>
        </p:grpSpPr>
        <p:sp>
          <p:nvSpPr>
            <p:cNvPr id="58" name=""/>
            <p:cNvSpPr/>
            <p:nvPr/>
          </p:nvSpPr>
          <p:spPr>
            <a:xfrm>
              <a:off x="2987640" y="1052640"/>
              <a:ext cx="1728720" cy="165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8720" y="227628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bir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3060360" y="1173240"/>
              <a:ext cx="1584360" cy="106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2843280" y="2852640"/>
            <a:ext cx="2089080" cy="2082960"/>
            <a:chOff x="2843280" y="2852640"/>
            <a:chExt cx="2089080" cy="208296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2843280" y="2852640"/>
              <a:ext cx="2089080" cy="20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996000" y="4005360"/>
              <a:ext cx="650160" cy="368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12720" y="566100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gram v strojnem jeziku izvaj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6 -0.31954 C -0.0375 -0.3637 -0.06094 -0.40809 -0.10052 -0.41387 C -0.14011 -0.41942 -0.22379 -0.403 -0.25139 -0.35376 C -0.27899 -0.30474 -0.26441 -0.24324 -0.26667 -0.11977 C -0.26892 0.00347 -0.26528 0.30289 -0.26493 0.38659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8:55:06Z</dcterms:created>
  <dc:creator>Sasa Divjak</dc:creator>
  <dc:description/>
  <dc:language>en-US</dc:language>
  <cp:lastModifiedBy>Sasa Divjak</cp:lastModifiedBy>
  <dcterms:modified xsi:type="dcterms:W3CDTF">2007-01-02T20:05:57Z</dcterms:modified>
  <cp:revision>5</cp:revision>
  <dc:subject/>
  <dc:title>Slide 1</dc:title>
</cp:coreProperties>
</file>